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D29-CDD4-4C86-8BEF-7C2633F3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776-A9D1-45C3-8590-1518062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4DB-D1C8-43BA-B2C4-441C3477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7C0-D2A0-4D84-B293-EB9C3167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F85-9A38-435D-BD84-28E8E10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BF9-2D4C-482D-A459-A4332EF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8E8-B535-432B-A77A-4590490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3DC-194C-4DF5-A023-FE598F04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441-83B1-4FBE-AF08-A944805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10B-96C5-43DE-92C5-C0E41ED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3DD-2F01-4265-A8AA-E1551C1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F07-9836-4B18-A491-69C6183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CA9-EAE5-494A-9677-AE837164A09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00040" y="998640"/>
            <a:ext cx="8072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7 Marcador de contenido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643960" cy="4714920"/>
          </a:xfrm>
          <a:prstGeom prst="rect">
            <a:avLst/>
          </a:prstGeom>
          <a:ln w="0">
            <a:noFill/>
          </a:ln>
        </p:spPr>
      </p:pic>
      <p:pic>
        <p:nvPicPr>
          <p:cNvPr id="44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5" descr="logo USEBEQGris"/>
          <p:cNvPicPr/>
          <p:nvPr/>
        </p:nvPicPr>
        <p:blipFill>
          <a:blip r:embed="rId3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500040" y="790920"/>
            <a:ext cx="8072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7 Marcador de contenido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786880" cy="4786200"/>
          </a:xfrm>
          <a:prstGeom prst="rect">
            <a:avLst/>
          </a:prstGeom>
          <a:ln w="0">
            <a:noFill/>
          </a:ln>
        </p:spPr>
      </p:pic>
      <p:pic>
        <p:nvPicPr>
          <p:cNvPr id="49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5" descr="logo USEBEQGris"/>
          <p:cNvPicPr/>
          <p:nvPr/>
        </p:nvPicPr>
        <p:blipFill>
          <a:blip r:embed="rId3"/>
          <a:stretch/>
        </p:blipFill>
        <p:spPr>
          <a:xfrm>
            <a:off x="6858000" y="1429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7 Marcador de contenido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8072280" cy="412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500040" y="1005840"/>
            <a:ext cx="8072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 DEL SECTOR EDU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5" descr="logo USEBEQGris"/>
          <p:cNvPicPr/>
          <p:nvPr/>
        </p:nvPicPr>
        <p:blipFill>
          <a:blip r:embed="rId3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500040" y="1217880"/>
            <a:ext cx="80726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2010 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5880" y="2214720"/>
          <a:ext cx="7643880" cy="3870000"/>
        </p:xfrm>
        <a:graphic>
          <a:graphicData uri="http://schemas.openxmlformats.org/drawingml/2006/table">
            <a:tbl>
              <a:tblPr/>
              <a:tblGrid>
                <a:gridCol w="1071360"/>
                <a:gridCol w="3286440"/>
                <a:gridCol w="328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CLO ESCOLA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                                                  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ES U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Y RE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O S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ES U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Y RE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DOR MEXIC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LÁZARO CÁRDE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ONSO BALLESTERO RÍ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ÁL LÁZARO CÁRDE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OLFO LÓPEZ MAT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MÉRITO DE LAS AMÉ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NTE SUÁR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MÉRITO DE LAS AMÉ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 DE DIOS RODRÍGUEZ HER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FAEL RAMÍR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ROVI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ENCIAS Y LE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BLO CABR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ROVI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ANO ESCOBE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OLUCIÓN DE 19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Imagen 6" descr="TODAS EN LINEA bn"/>
          <p:cNvPicPr/>
          <p:nvPr/>
        </p:nvPicPr>
        <p:blipFill>
          <a:blip r:embed="rId1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60" name="Imagen 5" descr="logo USEBEQGris"/>
          <p:cNvPicPr/>
          <p:nvPr/>
        </p:nvPicPr>
        <p:blipFill>
          <a:blip r:embed="rId2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500040" y="1217880"/>
            <a:ext cx="80726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2010 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2214720"/>
          <a:ext cx="7643880" cy="3870000"/>
        </p:xfrm>
        <a:graphic>
          <a:graphicData uri="http://schemas.openxmlformats.org/drawingml/2006/table">
            <a:tbl>
              <a:tblPr/>
              <a:tblGrid>
                <a:gridCol w="1071360"/>
                <a:gridCol w="3286440"/>
                <a:gridCol w="328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CLO ESCOLA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                                                  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GONZÁLEZ BOCAN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MANUEL ALTAMI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ÉTA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ANCISCO GONZÁLEZ BOCAN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MANUEL ALTAMI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EQUIEL MO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INO GARCÍA MEJ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CHOR O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ÓCORO NIEVES HERNÁN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INO GARCÍA MEJ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CHOR O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DO NER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 ESCU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NCE DE SEPTIE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LINAR ORTIZ Y MEND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UAN ESCU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CIA Y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TO JUÁREZ (22DPR0189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ZARAG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É VASCONCE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O S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ZARAG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 VIC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ANO MATAMO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Imagen 6" descr="TODAS EN LINEA bn"/>
          <p:cNvPicPr/>
          <p:nvPr/>
        </p:nvPicPr>
        <p:blipFill>
          <a:blip r:embed="rId1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logo USEBEQGris"/>
          <p:cNvPicPr/>
          <p:nvPr/>
        </p:nvPicPr>
        <p:blipFill>
          <a:blip r:embed="rId2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0:10:52Z</dcterms:created>
  <dc:creator/>
  <dc:description/>
  <dc:language>en-US</dc:language>
  <cp:lastModifiedBy>Rafael Rodriguez</cp:lastModifiedBy>
  <dcterms:modified xsi:type="dcterms:W3CDTF">2012-04-26T01:11:13Z</dcterms:modified>
  <cp:revision>36</cp:revision>
  <dc:subject/>
  <dc:title>DIRECCION DE EDUCACION PRIMARIA SECTOR EDUCATIVO No. 3</dc:title>
</cp:coreProperties>
</file>